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C44D-6BF6-46CC-A1B9-760C80966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C25F-A863-4D34-847F-97A00D42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CC68-3861-4979-B04D-3D37B713B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901-8609-4CA4-9F0A-9A8CD2CE3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B0CB4-40C6-44F1-9895-7DB1CD15E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17AD2-9B99-4EFB-8895-D78E9EB34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F3072-E945-4684-A939-8A6C76312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5E66-24BA-4B38-81DC-9208184C8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21B04-A4A0-4F05-AA41-FA6B399A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289E-652F-4E74-BF87-1390B0D15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689C-6F1B-4D6A-A0AE-FC7D8CFC6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89D0F-E89E-467E-AE10-23927320E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842C4-1EED-4783-BC86-FD9B07845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C0A8-6D0F-4BE7-BFFA-296D55BB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6401E-8A47-4C7D-B03E-BA95CFE9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4559-CAAA-4FD3-8CE3-3FA4241D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D73FB-6103-44C3-A9D5-72BAA9FE1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A4D4F-4787-4883-AB63-3E6E2D829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10379-80D5-4718-9D62-F3639BF7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21794-0531-4EE7-BAEC-B5CCBF2BC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4197C-53FE-4B00-B9A0-B0E9D239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E0A94-444C-43C0-892C-5D5CB59A3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6643-ED32-474A-B51E-063F5C6D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EBF53-DBF0-42FD-B3E8-4D0886F4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3B351-6CC6-477D-88FA-20A8C6461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779F6-1234-4D96-A71A-8F363D612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F4C20-1BE3-41E7-AFD9-01C84326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72333C-A8E6-4775-8DEB-BD79B22E3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8CBF4-F793-4A24-98AD-F8E71F54D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B6C78-CCCB-4555-AED0-11707D59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C2E964-6695-4EB6-8748-C50AD70B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594ACE-4AD4-47AE-B504-5BCC9B4EF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DE708-2CC1-47A8-B106-618CB4EA2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C03-6C10-41CF-B397-115D41B8E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8D2CA-1C71-49DB-8EB8-7EA15536B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AD74A-8767-4CAD-914C-57268726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F53A5-15C6-45CE-B799-C4503329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DD24F-BBB3-4CED-87B5-C295E25C5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A048F-F44A-40CE-B966-F020B8F23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DA3EA-0E87-4FA4-90FA-67805A6F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B7868-4E3F-4EE5-9378-2F86F225D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4D565F-E7D5-4EB9-8235-B1B1CAC56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C30D0-DBCE-4CAF-87D2-9EFBE0E0F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F7CEDB-ED6C-4C6F-969E-E04C37D92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EA3F-BBE2-4AF1-A1B0-EB71E7CE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6A9457-05AE-48A9-8194-AE57A139E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042179-D844-4588-AD16-F0E7E0741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A814E5-F3EA-4E7D-ABA3-B9099CCC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8B6139-55CC-429B-8E4D-73F655AA5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C5312-70D3-41CD-94AD-6354FE1C6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2EAE8-AD62-4DC0-AEEF-FFDFFC96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7FACC7-3E4B-40D9-9E8A-0F5D5483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28F74B-74AA-41D1-9A66-0DFCE399D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64665-CABC-471E-85FA-E6298519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975C3-9B9C-4FF5-8A15-6FC653714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5EBF-7989-481B-9F72-FEA7577A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31091-9A29-4BC8-BE0F-7FDC7B06A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6AF7F3-8778-4AC4-95D2-A6937F130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84ADD-F867-48BA-88B3-6A6FC654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661B8-3E4A-4817-92EF-9B70AD61D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66BBE2-032C-4F1A-8CE3-9340C3024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770AD6-FED4-49E7-8182-7D8E5765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DEAA9-9C89-4A62-93F0-1946EBB25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6B786-8F92-4DD8-A599-DEDC2999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C93EF-DF98-445E-B1FA-CECF28F7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8B1E3-8818-4F35-BF29-A6466B47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8A6-D6AE-4228-B822-EAA8AFF42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EFBD0F-6DFC-45E8-8B3D-EE5D2A93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8E91B6-506D-4E67-90AE-A9F3FB21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47CC4E-BA88-445B-91CD-302F35A67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795B7-3C70-435F-8DE2-3C77956D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3BB3B-559E-43C5-8151-32D2898D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FE7E4-1359-4C56-9CC5-EF51F936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C09C1-4B98-47F3-805F-335DDFAB0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A3E5DC-790C-4819-8627-6AC960E02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7E4F1E-6CFD-4AAF-BCF0-3917989F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20FC78-ABBF-40FD-A76F-D7FD3A67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405C-DC44-4C64-A364-0AEC9FB91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E314BC-4425-4B9D-8DEA-B50051BE8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F848E-A059-4E2D-A417-ED207BD2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915600-EB8D-4FCF-9B98-433FB7B9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DE83FD-C5EF-4DD2-A23D-5A3BAC3BC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4C11EF-864A-4C50-A442-0D04C2BC7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A85E-BF6B-478B-8AD0-66AB5F447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902F-E441-4653-A6D1-C3851E70C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DE56-A69A-446F-A450-15FD5E1D40D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9BBA0-CFE3-4BAD-BD44-57CA25497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2d2d2">
                  <a:alpha val="1176"/>
                </a:srgbClr>
              </a:gs>
              <a:gs pos="100000">
                <a:srgbClr val="d2d2d2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6004a"/>
              </a:gs>
              <a:gs pos="100000">
                <a:srgbClr val="ff69a4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6c6c6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fbfb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ABFBF-2FCB-4EEF-8A7E-0A8D17130F2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24DE-3F75-4BCD-8BC9-9A09558310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74747"/>
            </a:gs>
            <a:gs pos="100000">
              <a:srgbClr val="8c8c8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FD53-8E4E-4F0A-99F0-5193EA2D1154}" type="slidenum"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c9c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388c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388c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0b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C62DE-DAF6-47FA-8F1E-A4BD78AD6281}" type="slidenum"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Rectangle 2" descr=""/>
          <p:cNvPicPr/>
          <p:nvPr/>
        </p:nvPicPr>
        <p:blipFill>
          <a:blip r:embed="rId1"/>
          <a:stretch/>
        </p:blipFill>
        <p:spPr>
          <a:xfrm>
            <a:off x="542880" y="774720"/>
            <a:ext cx="8319960" cy="1766880"/>
          </a:xfrm>
          <a:prstGeom prst="rect">
            <a:avLst/>
          </a:prstGeom>
          <a:ln w="0">
            <a:noFill/>
          </a:ln>
        </p:spPr>
      </p:pic>
      <p:pic>
        <p:nvPicPr>
          <p:cNvPr id="302" name="Rectangle 3" descr=""/>
          <p:cNvPicPr/>
          <p:nvPr/>
        </p:nvPicPr>
        <p:blipFill>
          <a:blip r:embed="rId2"/>
          <a:stretch/>
        </p:blipFill>
        <p:spPr>
          <a:xfrm>
            <a:off x="542880" y="2170080"/>
            <a:ext cx="8163000" cy="18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e building is very old but luxuriou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l edificio es muy antiguo pero lujoso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3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3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e photographer (m) decided to take pictures of all the activitie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l fotógrafo decidió sacar fotos de todas las actividades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3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Let’s take a taxi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Vamos a tomar un taxi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The journalist wrote a long interview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El periodista escribió una entrevista larga.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3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architecture in Madrid is not modern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La arquitectura en Madrid no es modern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Were you (sing / form)  the bos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¿Fue usted el jefe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7" dur="500"/>
                                        <p:tgtEl>
                                          <p:spTgt spid="3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" dur="500"/>
                                        <p:tgtEl>
                                          <p:spTgt spid="3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I don’t agree. Mercedes was the winner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  <a:p>
            <a:pPr marL="380880" indent="-380880">
              <a:spcBef>
                <a:spcPts val="90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No estoy de acuerdo. Mercedes fue la ganadora.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3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c9c"/>
              </a:solidFill>
              <a:latin typeface="Century Gothic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 don’t want to be a recepcionist, I want to be a secretary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388c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(Yo) quiero ser una recepcionista, quiero ser una secretari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5" dur="20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" dur="2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19:48:23Z</dcterms:created>
  <dc:creator>coffmank</dc:creator>
  <dc:description/>
  <dc:language>en-US</dc:language>
  <cp:lastModifiedBy>Prine, Stephanie</cp:lastModifiedBy>
  <dcterms:modified xsi:type="dcterms:W3CDTF">2013-01-17T16:33:29Z</dcterms:modified>
  <cp:revision>10</cp:revision>
  <dc:subject/>
  <dc:title>5-3 2nd chispas</dc:title>
</cp:coreProperties>
</file>